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4215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447D-77DA-4E19-A4CB-B593ECE2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47E-0AEC-4EA2-A500-60C9AAA2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8200-01BA-499A-ADBC-034EB8D21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2B47-8A4D-43C2-A847-60673E0A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EDA5-1147-4FB9-BACD-8EE93005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9482-CC99-44A7-B728-62FE4FA7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459-E100-4D03-8CC1-28680C67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4A0-0120-4310-AB17-D1BCDF76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491-1009-4F87-BF43-36D5F4B6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DD0A-2657-4CC4-BF41-5E9C916F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4BCB-F419-452A-83DA-5BD4EC0E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DCBE-B3B6-45A0-86D9-0AF8E118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762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689880" y="603396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logo_redproteger" descr=""/>
          <p:cNvPicPr/>
          <p:nvPr/>
        </p:nvPicPr>
        <p:blipFill>
          <a:blip r:embed="rId3"/>
          <a:stretch/>
        </p:blipFill>
        <p:spPr>
          <a:xfrm>
            <a:off x="63360" y="101520"/>
            <a:ext cx="579600" cy="650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5040" y="749160"/>
            <a:ext cx="0" cy="60454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0360" y="838080"/>
            <a:ext cx="546120" cy="58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808080"/>
                </a:solidFill>
                <a:latin typeface="Times New Roman"/>
              </a:rPr>
              <a:t>Programa de Trabajo para el Manejo de Car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ftr" idx="1"/>
          </p:nvPr>
        </p:nvSpPr>
        <p:spPr>
          <a:xfrm>
            <a:off x="2743200" y="639432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2"/>
          </p:nvPr>
        </p:nvSpPr>
        <p:spPr>
          <a:xfrm>
            <a:off x="761760" y="6394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3"/>
          </p:nvPr>
        </p:nvSpPr>
        <p:spPr>
          <a:xfrm>
            <a:off x="8686800" y="639432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E9B7-E352-431E-BA46-6C569433C61C}" type="slidenum">
              <a:rPr b="0" lang="es-E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jo%20azul%20oscuro%20p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52280" y="559152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Programa de Trabajo para el Manejo de Carg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62320" y="2570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ffff"/>
                </a:solidFill>
                <a:latin typeface="Verdana"/>
              </a:rPr>
              <a:t>Red Pro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Verdana"/>
              </a:rPr>
              <a:t>Presen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N00699_" descr=""/>
          <p:cNvPicPr/>
          <p:nvPr/>
        </p:nvPicPr>
        <p:blipFill>
          <a:blip r:embed="rId2"/>
          <a:stretch/>
        </p:blipFill>
        <p:spPr>
          <a:xfrm>
            <a:off x="2705040" y="1693800"/>
            <a:ext cx="3732120" cy="3468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B93-681F-4AB8-A281-4B8FB87A46B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295280" y="1676520"/>
            <a:ext cx="725832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Dentro de los accesorios incluimos:</a:t>
            </a: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 eslingas de cable de acero, eslingas de cadenas, eslingas de tela, cáncam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Los pasos a dar son los sigu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Relevamiento, clasificación e inventariado de los elem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Standarización de elem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lan de recambio de elementos crític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lan de inspección periód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apacitación de todo el pers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Cartel en taller indicativo sobre tabla de carg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Verdana"/>
              </a:rPr>
              <a:t>Plan de auditoria de uso en tal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52280"/>
            <a:ext cx="4800600" cy="16002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cceso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C316-8452-4AF5-BC77-DE6D7CD135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Relevamiento, clasificación e inventariado de los elem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8669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determinar el stock de elementos, estado de los mismos e incluirlos en el plan de insp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53960" y="3429000"/>
            <a:ext cx="7043760" cy="2324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emento normal: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uede seguir en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emento crítico: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cambio program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lemento muy crítico: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imi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6C68-0DD2-42D4-93E2-4A4A9EFBEF7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Standarización de ele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8669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unificar tipo y capacidad de los elementos de car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53960" y="2895480"/>
            <a:ext cx="704376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liminación del estándar de compras, de la eslinga de cable de a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Uso en taller de eslingas de cadena y faja de 3.000 kg de carga direc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Accesorios fuera de este estándar en depósito bajo control de uso y sal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Redacción de norma interna con estándar para el área de comp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D281-E5CF-4478-BAF7-90A32ED8DC7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876920" y="457200"/>
            <a:ext cx="0" cy="5715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53960" y="647640"/>
            <a:ext cx="314172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slinga de Cad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16480" y="647640"/>
            <a:ext cx="314172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Eslinga de Cable de Ac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23920" y="1905120"/>
            <a:ext cx="5715000" cy="5331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Comparación en base a 3 Tn de car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809880"/>
            <a:ext cx="34466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$ 235,5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Para dos metros de cade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11560" y="3809880"/>
            <a:ext cx="344664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$ 1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Para dos metros de c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45A0-562F-4BA6-A590-256E088252FF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lan de recambio de elementos crí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1676520"/>
            <a:ext cx="7467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2209680"/>
            <a:ext cx="7467840" cy="403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slinga de Tel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slingas de Acer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Eslingas de Caden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Grille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Garr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Verdana"/>
              </a:rPr>
              <a:t>Apare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elementos normales serán incluidos en plan de inspec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elementos críticos son para reemplazar en forma programa según posiblidades de la empre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Los elementos muy críticos fueron elimi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68580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1F43-7480-4539-A9DC-2DD8D9E429E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n de inspección periód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18669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planificar el controlar en periódico de todos los ele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53960" y="2895480"/>
            <a:ext cx="704376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Inventario de todos los elementos con toda la info. de los mismo, fecha de compra, mantenimiento realizado, fechas de controles y resultad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Inspección interna o externa en caso de ser neces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Frecuencia mínima mensual y revisada conforme a result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280-48E2-4D73-AE23-17A47BCF293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acitación de todo el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186696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instruir a todo el personal sobre el uso adecuado de los ele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53960" y="2895480"/>
            <a:ext cx="704376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Pólitica de la empresa en materia de esling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stándar usado para el tall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Elementos no estánd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Pautas para el esling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Orden de los ele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Como saber cuando una eslinga o accesorio no está en condiciones de u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Como inspeccionar los ele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Que hacer en caso de encontrar elementos no adecu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CA52-5054-473A-A356-00593ED6F23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Car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2590920"/>
            <a:ext cx="704376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Instalar en taller carteles con indicación clara de la capacidad de carga de las eslingas de 3 Tn en función de los ángulos de carga y la cantidad de esling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0BFA-C3CA-442F-8DDC-C6B718921029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353960" y="647640"/>
            <a:ext cx="7043760" cy="83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lan de auditoria de uso en 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743200"/>
            <a:ext cx="7043760" cy="3276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Realización de recorrida de taller con jefe o supervsior para verificar e instruir sobre condiciones de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Verdana"/>
              </a:rPr>
              <a:t>Realización de informe y evaluación de la evolución de las condiciones de u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723960"/>
            <a:ext cx="762120" cy="685800"/>
          </a:xfrm>
          <a:custGeom>
            <a:avLst/>
            <a:gdLst>
              <a:gd name="textAreaLeft" fmla="*/ 173880 w 762120"/>
              <a:gd name="textAreaRight" fmla="*/ 588240 w 76212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1905120"/>
            <a:ext cx="7467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Los objetivos son: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verificar condiciones de uso de los elementos y pautas dadas en la capaci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8C91-C789-4F3A-BCB8-5DE8C748C617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353960" y="228600"/>
            <a:ext cx="7043760" cy="685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1752480"/>
            <a:ext cx="0" cy="44197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240" y="5638680"/>
            <a:ext cx="8001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09680" y="5943600"/>
            <a:ext cx="1219320" cy="307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Verdana"/>
              </a:rPr>
              <a:t>13/10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681280" y="2819520"/>
            <a:ext cx="0" cy="304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71640" y="5943600"/>
            <a:ext cx="27432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Novi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5943600"/>
            <a:ext cx="228600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Dici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514600" y="1066680"/>
            <a:ext cx="472428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Relevamiento, clasificación e inventariado de los elemen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Standarización de element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Plan de recambio de elementos crítico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Plan de inspección periód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Capacitación de todo el perso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Cartel en taller indicativo sobre tabla de carg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buClr>
                <a:srgbClr val="ffffff"/>
              </a:buClr>
              <a:buFont typeface="Verdana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Plan de auditoria de uso en tall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33360" y="5257800"/>
            <a:ext cx="304812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47760" y="4876920"/>
            <a:ext cx="1400040" cy="304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518148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480060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40064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400068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58632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315756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2771640"/>
            <a:ext cx="380880" cy="457200"/>
          </a:xfrm>
          <a:custGeom>
            <a:avLst/>
            <a:gdLst>
              <a:gd name="textAreaLeft" fmla="*/ 86760 w 380880"/>
              <a:gd name="textAreaRight" fmla="*/ 294120 w 380880"/>
              <a:gd name="textAreaTop" fmla="*/ 104400 h 457200"/>
              <a:gd name="textAreaBottom" fmla="*/ 3528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4481640"/>
            <a:ext cx="621504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38680" y="2819520"/>
            <a:ext cx="0" cy="304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2819520"/>
            <a:ext cx="0" cy="3047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105760" y="4067280"/>
            <a:ext cx="80964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43560" y="3672000"/>
            <a:ext cx="3504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10440" y="3276720"/>
            <a:ext cx="804960" cy="304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110440" y="2895480"/>
            <a:ext cx="80496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5224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43000" y="48340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57400" y="44197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57400" y="40384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57400" y="361008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57400" y="326232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57400" y="286704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828800" y="5714640"/>
            <a:ext cx="76212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6C5-BDA4-47C3-AD79-9FCD81600D96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371600" y="1776240"/>
            <a:ext cx="7467480" cy="31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Depósito leg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Todos los derechos reserv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Hecho el depósito que marca la ley 11.7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El derecho de propiedad de esta obra comprende para su autor la facultad exclusiva de disponer de ella, publicarla, traducirla, adaptarla o autorizar su traducción y reproducirla en cualquier forma, total o parcial, por medios electrónicos o mecánicos, incluyendo fotocopia, copia xerográfica, grabación magnetofónica y cualquier sistema de almacenamiento de información. Por consiguiente, ninguna persona física o jurídica está facultada para ejercitar los derechos precitados sin permiso escrito de RED PROTEG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Los infractores serán reprimidos con las penas del art. 172 y concordantes del Código Penal (arts. 2°, 9°, 10, 71, 72 de la ley 11.723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s-ES_tradnl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 </a:t>
            </a:r>
            <a:r>
              <a:rPr b="0" lang="es-ES_tradnl" sz="12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Copyright 2003 por RED PROTEGER. Derechos Reservados.</a:t>
            </a:r>
            <a:r>
              <a:rPr b="0" lang="es-ES" sz="1200" spc="-1" strike="noStrike">
                <a:solidFill>
                  <a:srgbClr val="ffffff"/>
                </a:solidFill>
                <a:latin typeface="Copperplate Gothic Light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613-5E61-4A35-B568-51A0DF603A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199880" y="2285640"/>
            <a:ext cx="72579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os pasos a dar son los siguien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terminar puntos de control e inspección conforme a ley, y a pautas de buenas práct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 de inspección periód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apacitación de todo el person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Plan de auditoria de u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228600"/>
            <a:ext cx="4800600" cy="16002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Puente Grúa/Grú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738B-727F-46AF-8A17-6924B35DEB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638360" y="2286000"/>
            <a:ext cx="693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2362320"/>
            <a:ext cx="6400800" cy="2057400"/>
          </a:xfrm>
          <a:custGeom>
            <a:avLst/>
            <a:gdLst>
              <a:gd name="textAreaLeft" fmla="*/ 1324080 w 6400800"/>
              <a:gd name="textAreaRight" fmla="*/ 5076720 w 6400800"/>
              <a:gd name="textAreaTop" fmla="*/ 874080 h 2057400"/>
              <a:gd name="textAreaBottom" fmla="*/ 19072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2422"/>
                </a:moveTo>
                <a:arcTo wR="21600" hR="35910" stAng="6549065" swAng="-522076"/>
                <a:lnTo>
                  <a:pt x="4468" y="20022"/>
                </a:lnTo>
                <a:arcTo wR="21600" hR="35910" stAng="6026989" swAng="-1253978"/>
                <a:lnTo>
                  <a:pt x="17132" y="15655"/>
                </a:lnTo>
                <a:arcTo wR="21600" hR="35910" stAng="4773011" swAng="-522076"/>
                <a:lnTo>
                  <a:pt x="18900" y="8402"/>
                </a:lnTo>
                <a:lnTo>
                  <a:pt x="21600" y="0"/>
                </a:lnTo>
                <a:lnTo>
                  <a:pt x="21600" y="0"/>
                </a:lnTo>
                <a:arcTo wR="21600" hR="35910" stAng="4250935" swAng="797572"/>
                <a:lnTo>
                  <a:pt x="14432" y="8667"/>
                </a:lnTo>
                <a:arcTo wR="21600" hR="35910" stAng="5048507" swAng="702987"/>
                <a:lnTo>
                  <a:pt x="7168" y="4300"/>
                </a:lnTo>
                <a:arcTo wR="21600" hR="35910" stAng="5751493" swAng="797572"/>
                <a:lnTo>
                  <a:pt x="2700" y="8402"/>
                </a:lnTo>
                <a:close/>
              </a:path>
              <a:path fill="none" w="21600" h="21600">
                <a:moveTo>
                  <a:pt x="7168" y="8667"/>
                </a:moveTo>
                <a:arcTo wR="21600" hR="35910" stAng="5751493" swAng="275495"/>
                <a:lnTo>
                  <a:pt x="7168" y="4300"/>
                </a:lnTo>
              </a:path>
              <a:path fill="none" w="21600" h="21600">
                <a:moveTo>
                  <a:pt x="14432" y="8667"/>
                </a:moveTo>
                <a:arcTo wR="21600" hR="35910" stAng="5048507" swAng="-275495"/>
                <a:lnTo>
                  <a:pt x="14432" y="4300"/>
                </a:lnTo>
              </a:path>
              <a:path fill="none" w="21600" h="21600">
                <a:moveTo>
                  <a:pt x="4468" y="15655"/>
                </a:moveTo>
                <a:lnTo>
                  <a:pt x="4468" y="7600"/>
                </a:lnTo>
              </a:path>
              <a:path fill="none" w="21600" h="21600">
                <a:moveTo>
                  <a:pt x="17132" y="15655"/>
                </a:moveTo>
                <a:lnTo>
                  <a:pt x="17132" y="7600"/>
                </a:lnTo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Wide Latin"/>
              </a:rPr>
              <a:t>F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B76D-2359-4A5B-B3EA-8A6FD97387BE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ojo%20azul%20oscuro%20pp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mail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6870600" y="5829480"/>
            <a:ext cx="1397160" cy="3070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Verdana"/>
              </a:rPr>
              <a:t>445125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9160-5874-4A09-932E-30DFF867F0B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95280" y="3809880"/>
            <a:ext cx="7554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"Todo lo que nace proviene necesariamente de una causa, pues sin causa nada puede tener orige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pperplate Gothic Light"/>
                <a:ea typeface="Times New Roman"/>
              </a:rPr>
              <a:t>Plat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A7B2-FBDF-4ECF-9848-0844AC50E21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38080" y="609480"/>
            <a:ext cx="838440" cy="563904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47840" y="304920"/>
            <a:ext cx="6324840" cy="7617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nálisis del Pelig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5120" y="1523880"/>
            <a:ext cx="7010280" cy="441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Denominación del Genérica del Peligro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Manejo de Grandes Car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Daños esperado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Muerte o incapacidad g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Motivo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Caida del objeto y/o movimiento imprevisto del mi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Causas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Rotura de eslingas o accesorios, uso inadecuado de eslingas, eslingas sobrecargadas o en mal estado, falta de capacitación, eslingado inadecuado, falta de mantenimiento, movimiento brusco de cargas, sobrecarga o mal uso de la grúa o puente grúa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Frecuencia de uso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: muy alta, muchas veces por d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Verdana"/>
              </a:rPr>
              <a:t>Personal involucrado:</a:t>
            </a:r>
            <a:r>
              <a:rPr b="0" lang="es-AR" sz="1600" spc="-1" strike="noStrike">
                <a:solidFill>
                  <a:srgbClr val="ffffff"/>
                </a:solidFill>
                <a:latin typeface="Verdana"/>
              </a:rPr>
              <a:t> todo o casi to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6954-CFF3-4266-BAD0-9B7FB455E2E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14680" y="457200"/>
            <a:ext cx="6324480" cy="7621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Valoración d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42960" y="1752480"/>
            <a:ext cx="6667560" cy="3962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Cons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uy Grave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Muerte, incapacidad total permanente; ejemplo: caída de altura, contacto eléctric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Grave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Golpe en la cabeza, pérdidas de miembros y/o amputaciones, pérdida de conocimiento, quemaduras de 2do. y 3er. grado, intoxicaciones, choque con autoelevador, fracturas, aplastami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Mediana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Esfuerzos excesivos (hernia, lumbalgia, etc.), golpes en rodillas, torcedura de tobillos, malas posiciones de trabaj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Leve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tropiezo, irritaciones de piel y/o vist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3D3A-DC3A-4368-B0C6-DFAC96806FE6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14680" y="533520"/>
            <a:ext cx="6324480" cy="7617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Valoración d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42960" y="1828800"/>
            <a:ext cx="6667560" cy="3962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Frecu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Muy Alta: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Actividad que se ejecuta o lugar que se accede varias veces en el turno de trabajo. Lugar de transito obligado. Puesto de trabajo permanente o semiperman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Alta: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Actividad que se ejecuta o lugar que se accede al menos una vez por dí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Baja: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Actividad que se ejecuta o lugar que se accede al menos una vez por sem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Remota:</a:t>
            </a:r>
            <a:r>
              <a:rPr b="0" lang="es-ES_tradnl" sz="1600" spc="-1" strike="noStrike">
                <a:solidFill>
                  <a:srgbClr val="ffffff"/>
                </a:solidFill>
                <a:latin typeface="Arial"/>
                <a:ea typeface="Arial"/>
              </a:rPr>
              <a:t> Actividad que se ejecuta o lugar que se accede en forma esporádica.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3597-D157-4A1E-9A53-B2A8D85AD42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714680" y="1752480"/>
            <a:ext cx="6324480" cy="7621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Matríz de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1676520"/>
            <a:ext cx="7086600" cy="3733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498636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6280" y="454824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76280" y="410544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6280" y="361476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0400" y="2590920"/>
            <a:ext cx="0" cy="2819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66920" y="2590920"/>
            <a:ext cx="7086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067200"/>
            <a:ext cx="525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2743200"/>
            <a:ext cx="1524240" cy="76212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Verdana"/>
              </a:rPr>
              <a:t>Grav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2638440"/>
            <a:ext cx="4457520" cy="38088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Verdana"/>
              </a:rPr>
              <a:t>Frecu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3705120"/>
            <a:ext cx="160020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Muy G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52600" y="4152960"/>
            <a:ext cx="1600200" cy="342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Gr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4605480"/>
            <a:ext cx="1600200" cy="34272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Mode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5029200"/>
            <a:ext cx="160020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L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3186000"/>
            <a:ext cx="129528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Muy 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05280" y="3186000"/>
            <a:ext cx="106704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Al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019920" y="3186000"/>
            <a:ext cx="91440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B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162920" y="3186000"/>
            <a:ext cx="1143000" cy="343080"/>
          </a:xfrm>
          <a:prstGeom prst="flowChartAlternateProcess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Verdana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76760" y="304812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3048120"/>
            <a:ext cx="0" cy="2361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86600" y="3062160"/>
            <a:ext cx="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57640" y="3691080"/>
            <a:ext cx="1357200" cy="347400"/>
          </a:xfrm>
          <a:prstGeom prst="rect">
            <a:avLst/>
          </a:prstGeom>
          <a:solidFill>
            <a:srgbClr val="ff66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43240" y="4162320"/>
            <a:ext cx="1357200" cy="31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38680" y="3676680"/>
            <a:ext cx="1157400" cy="352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1680" y="4633920"/>
            <a:ext cx="12956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6200" y="4176720"/>
            <a:ext cx="106704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86200" y="4633920"/>
            <a:ext cx="106704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705120"/>
            <a:ext cx="99036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4176720"/>
            <a:ext cx="99036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043600"/>
            <a:ext cx="12952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786200" y="5043600"/>
            <a:ext cx="106704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05520" y="4633920"/>
            <a:ext cx="9907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05520" y="5043600"/>
            <a:ext cx="9907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162920" y="3705120"/>
            <a:ext cx="12189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162920" y="417204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148520" y="4614840"/>
            <a:ext cx="12193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43840" y="504360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5A4-AB39-4E00-914E-5EE82143D3C3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752480" y="304920"/>
            <a:ext cx="6324840" cy="76176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Valoración del Ries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820880"/>
            <a:ext cx="1357200" cy="318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963880"/>
            <a:ext cx="1357200" cy="318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106880"/>
            <a:ext cx="1357200" cy="3189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5097600"/>
            <a:ext cx="1357200" cy="31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114640" y="1542960"/>
            <a:ext cx="6896160" cy="876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Riesgo Muy Alto: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 Es un nivel de riesgo inaceptable para la empresa. Deben implementarse medidas de prevención, protección y control en forma inmediata. Se deberá trabajar para bajar en nivel de ries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14640" y="2705040"/>
            <a:ext cx="6896160" cy="838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Riesgo Alto: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 La operación podrá continuar, pero bajo un control muy estricto por parte de la Jefatura y Supervisión. Se deberán implementar un programa de trabajo para administar el riesgo y bajar en nivel de ries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14640" y="3924360"/>
            <a:ext cx="68961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Riesgo Moderado: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 Implementar un programa de control para mantener el nivel de riesgo o para baj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14640" y="4915080"/>
            <a:ext cx="68961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Riesgo Bajo:</a:t>
            </a:r>
            <a:r>
              <a:rPr b="0" lang="es-AR" sz="1400" spc="-1" strike="noStrike">
                <a:solidFill>
                  <a:srgbClr val="ffffff"/>
                </a:solidFill>
                <a:latin typeface="Arial"/>
                <a:ea typeface="Arial"/>
              </a:rPr>
              <a:t> Implementar un programa de control para mantener el nivel de riesg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1F4-F367-4FDB-994D-DCC15B18090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609480"/>
            <a:ext cx="1600200" cy="563904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1371600"/>
            <a:ext cx="4800600" cy="16002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Acceso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3633840"/>
            <a:ext cx="4800600" cy="16002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ffffff"/>
              </a:gs>
              <a:gs pos="100000">
                <a:srgbClr val="ccff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Verdana"/>
              </a:rPr>
              <a:t>Puente Grúa/Grú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grama de Trabajo para el Manejo de Cargas - Oct. 2003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4A3F-ABAD-4A12-9F1E-0FAEBE5B056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Autor: Ing. Néstor BOTTA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9T20:09:03Z</dcterms:created>
  <dc:creator>Nestor Adolfo Botta</dc:creator>
  <dc:description/>
  <dc:language>en-US</dc:language>
  <cp:lastModifiedBy>Nestor BOTTA</cp:lastModifiedBy>
  <cp:lastPrinted>2000-09-07T16:43:30Z</cp:lastPrinted>
  <dcterms:modified xsi:type="dcterms:W3CDTF">2003-10-13T22:42:34Z</dcterms:modified>
  <cp:revision>198</cp:revision>
  <dc:subject/>
  <dc:title>Sin título de diapositiva</dc:title>
</cp:coreProperties>
</file>